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5787-DC59-4981-BD2F-449CAA3053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90A-6165-4F66-BF93-9188B2ED03EC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9C56-1DB1-4ACE-A28B-3998721FFE15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F4CC-A9DD-458B-A0DC-45DAE49565B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F5471-5FA5-477C-A99A-5124339DB797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F4EFA-4CD9-4819-A60D-AE42CF9A7292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3CF1-D429-43D5-B918-E6F3E1E5415E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CA88-DAA9-4C0B-82AD-A6D283197C81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A6F8-3524-4B62-BE6E-B9986CE69ADB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1CFA-CEC2-4ADF-BC8E-AEE0C6CBCDC8}" type="slidenum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-10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简易呼吸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9133E-ED03-4584-8CAD-E04EC809D2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97A2-FCFB-4106-92DE-D30DBEDE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6A69A-8ADD-4354-ACE0-07B780FC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A7FA7-0FD1-400D-9C59-1E17B72D2F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D7CD-98DB-4DC8-AC0B-F7C6CD3A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2968-0410-4B80-B656-F3333CF8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B49CB-A05A-440F-A1A8-F3794C9F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1137-CF32-49D1-9929-B1A2B9471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24000" y="333000"/>
            <a:ext cx="858024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516CB-688F-409D-866E-F2E18D0BF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D280-40C0-4820-A393-05A4437E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BFE4-BB84-4C2B-850D-9E923F4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305280"/>
            <a:ext cx="85802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CFBF-15FA-477E-A777-A2314830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7184-5154-4518-931C-325A69F5A1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64360" y="6597720"/>
            <a:ext cx="1620720" cy="260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宋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46ca6"/>
              </a:buClr>
              <a:buFont typeface="宋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第五章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护理程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6760" y="112500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5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理学家赫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al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先提出了“护理程序”的概念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翰逊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ohns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奥兰多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Orland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、威登贝尔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iedenba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对护理程序作了进一步的理论阐述，试图将护理程序分为三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6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尤拉和沃尔什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ora &amp; Wals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将护理程序确定为四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盖比和拉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ebbie &amp; Lav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在护理程序中加入了护理诊断，使护理程序分为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7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美国护士协会将护理程序规定为评估、诊断、计划、实施、评价五个步骤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程序的发展史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代初，美籍学者李式莺博士将护理程序引入我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经美籍华裔学者吴袁剑云介绍，国内部分医院开始试点建设以护理程序为核心的系统化整体护理“模式病房”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99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，卫生部发文要求各医院积极推行整体护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年吴袁剑云又向我国介绍以护理程序为基本框架的临床路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五、护理程序的作用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解决服务对象的健康问题更具目标性和个体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使现代护理学更具科学性和系统性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程序保证了整体护理的实施和护理质量的提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二节  护理评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和分析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内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般资料、健康体检、生活状况及自理程度、心理社会状况、近期的实验室及其他检查结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观资料、客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资料的来源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本人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家属及关系密切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他医务人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服务对象的健康记录或病历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和护理的有关文献资料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收集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的方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交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评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查阅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整理和分析资料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核实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核实主观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明确内容含糊资料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整理资料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Maslow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需要层次论进行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戈登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种功能性健康型态整理分类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概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组成部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类型与陈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书写的注意事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三节  护理诊断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关于个人、家庭、社区对现存或潜在的健康问题及生命过程反应的一种临床判断，是护士为达到预期的结果选择护理措施的基础，这些预期结果应能通过护理职能达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诊断的概念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课程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  概  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二节  护理评估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三节  护理诊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四节  护理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五节  实  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六节  评  价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名称：是对服务对象健康状况的概括性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定义：是对名称的一种清晰的、正确的表达，并以此与其他诊断相鉴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诊断依据：是患者所具有的一组症状和体征，以及有关病史，也可以是危险因素，是做出诊断时的临床判断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关因素：指影响个体健康状况，导致健康问题的直接因素、促成因素或危险因素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病理生理方面、心理方面、治疗方面、情境方面、年龄方面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诊断的组成部分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症状或体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部分陈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护理诊断原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健康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综合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与合作性问题及医疗诊断的关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潜在并发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与医疗诊断的区别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诊断的类型与陈述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80880" y="3573360"/>
          <a:ext cx="8523360" cy="2941920"/>
        </p:xfrm>
        <a:graphic>
          <a:graphicData uri="http://schemas.openxmlformats.org/drawingml/2006/table">
            <a:tbl>
              <a:tblPr/>
              <a:tblGrid>
                <a:gridCol w="1562400"/>
                <a:gridCol w="3781080"/>
                <a:gridCol w="31798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区别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护理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医疗诊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0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诊断对象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人、家庭、社区的健康问题或生命过程反应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病理生理改变的一种临床判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2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描述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问题状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量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稳定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对健康问题的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现存或潜在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随患者健康状况的变化而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个体的疾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多是现存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数目较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相对稳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决策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护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医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70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护理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Calibri"/>
                          <a:ea typeface="Calibri"/>
                        </a:rPr>
                        <a:t>属于医疗职责范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所列名称应明确、书写规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简单易懂，尽量使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AND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认可的护理诊断名称，这样有利于护士直接的交流和探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用症状或体征代替护理诊断，避免与护理目标、护理措施、医疗诊断相混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项护理诊断针对患者的一个健康问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患者可有多个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是由护理措施能够解决的问题，应指出护理的方向，有利于制订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应明确相关因素，潜在的护理诊断应列出危险因素，因为护理计划制订的护理措施多是针对相关因素的，相同的护理诊断如果相关因素不同，护理措施也不同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不应有引起法律纠纷的描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避免价值判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诊断书写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四节  护理计划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护理诊断的顺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确定预期目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订护理措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成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诊断的优先顺序分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首优问题：是指那些对生命威胁最大，需要立即采取行动予以解决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优问题：是指那些虽然不直接威胁生命，但对服务对象的身心造成痛苦，严重影响服务对象健康或情绪上变化的问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优问题：是指那些个人在应对发展和生活变化时所遇到的问题，这些问题虽然不如生理需要和安全需要问题迫切，但并非不重要，同样需要护士给予帮助，使问题得到解决，以便服务对象达到最佳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排列护理诊断的优先顺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列原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按马斯洛的人类基本需要层次论进行排序，优先解决生理需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无原则冲突的情况下，可考虑患者认为最重要的问题予以优先解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现存的问题优先处理，但不要忽视潜在的和合作性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排序不是固定不变的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类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短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陈述方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主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谓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行为标准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条件状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时间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8208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识记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复述护理程序、护理诊断的概念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资料收集的内容、来源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说出护理诊断的组成、类型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描述护理目标的种类、陈述方式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主观资料和客观资料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诊断的不同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比较护理诊断与合作性问题及医疗诊断的不同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确定预期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364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以服务对象为中心，即目标的主语一定是患者或患者的一部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明确的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陈述应简单明了，切实可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具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应有时间限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关于潜在并发症的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的类型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独立性的护理措施：指不依赖医生的医嘱，护士能够独立提出并完成的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合作性的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是护士与其他健康保健人员相互合作采取的行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依赖性的护理措施：是指护士执行医嘱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制订护理措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必须具有一定的科学依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有针对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切实可行、因人而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应保证服务对象的安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措施要具体细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鼓励服务对象参与制订护理措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护理计划成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计划记录计算机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评估资料输入计算机，计算机将会显示相应的护理诊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定护理诊断后，计算机即可显示与护理诊断相对应的原因、预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预期目标后，计算机即提示可行的护理措施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选择护理措施后，制订出一份个体化的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打印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五节  实  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" y="1356840"/>
            <a:ext cx="878688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中护士应具备的技能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内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方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的过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实施中护士应具备的技能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认知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人际交往能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操作技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实施的内容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23640" y="119700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将护理计划所制订的活动加以组织、任务落实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执行医嘱，保持医疗和护理有机结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答服务对象及家属的咨询问题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实施的质量、效果，观察病情，处理突发急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收集资料，及时、准确地完成护理记录，不断补充和修正护理计划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其他医务人员保持良好关系，做好交班工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操作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管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咨询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教育和指导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沟通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录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报告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实施的方法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施前准备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思考整理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who how when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准备过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新评估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检查和修改护理计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准备实施护理措施所需要的知识和技能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预测可能发生的并发症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组织资源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执行计划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士运用操作技术、沟通技巧、观察能力、合作能力和应变能力执行护理措施的过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实施的动态记录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内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记录的方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以问题为中心的记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OA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要点记录表格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干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评价系统记录表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IE)</a:t>
            </a:r>
            <a:endParaRPr b="1" lang="en-US" sz="24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四、实施的过程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教学目标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496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理解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简述书写护理诊断和护理诊断排序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制订护理目标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举例说明护理措施的类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叙述护理措施制订的注意事项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运用：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临床实践中，运用护理程序为患者制订护理计划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56760" y="135684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目的和形式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的注意事项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六节  评 价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7501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评价目的和形式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服务对象对健康问题的反应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验证护理效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控护理质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积累护理经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9480" indent="-3394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形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过程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效果的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评价目标实现程度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评价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56760" y="1267920"/>
            <a:ext cx="8474040" cy="521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建立评价标准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确定评价阶段所需收集资料的类型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提供判断服务对象健康资料的标准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收集资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价预期目标是否实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35880" indent="-3358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审护理计划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继续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停止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取消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修订或增加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356760" y="128592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有不同的方法和类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应贯穿在整个护理计划执行过程中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及时评价、阶段评价、最终评价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1199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价除评价个体目标是否达到外，还应评价并改善群体护理质量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1199"/>
              </a:spcBef>
              <a:spcAft>
                <a:spcPts val="601"/>
              </a:spcAft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、过程和结果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6" name="标题 1"/>
          <p:cNvSpPr/>
          <p:nvPr/>
        </p:nvSpPr>
        <p:spPr>
          <a:xfrm>
            <a:off x="324000" y="333360"/>
            <a:ext cx="858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评价的注意事项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关于预期目标的描述，以下错误的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可分近期目标和远期目标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护理人员的护理活动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患者的行为表现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目标是期望患者达到的健康状态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设定目标是计划阶段的第二步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订护理计划的主要依据是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      　　　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医疗诊断    　　　　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检查报告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查体资料   　　　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既往病史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下资料中属于主观资料的是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晕        　　　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色苍白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四肢冰冷  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压痛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250920" y="1699920"/>
            <a:ext cx="86104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患者女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岁。因高热＼呼吸困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入院。体检：精神萎靡，体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9.0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呼吸困难，咳铁锈色痰，诊断为肺炎。以下对患者护理诊断的描述，正确的是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炎球菌性肺炎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高热      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食欲下降　与高热有关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体温过高　与致病菌引起肺部感染有关     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肺炎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测试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第一节  概  述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概念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步骤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与相关理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发展史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的作用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一、护理程序的概念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程序是一种有计划、系统而科学的护理工作方法，目的是确认和解决服务对象对现存或潜在健康问题的反应。它是一个综合的、动态的、具有决策和反馈功能的护理工作过程。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估：是护理程序的最初阶段。是有目的、有计划、系统地收集服务对象的生理、心理、社会、精神、文化等方面的健康资料并进行整理，以发现和确认其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诊断：是对护理评估阶段所收集的资料进行分析并确定护理问题，从护理的角度描述服务对象的健康问题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计划：是针对护理诊断制订的具体护理措施，包括根据护理问题的轻重缓急将护理诊断排序、确定护理目标、制订护理措施和书写护理计划等内容，是护理行动的指南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二、护理程序的步骤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实施：是为达到护理目标，而将计划中的内容付诸行动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护理评价：将服务对象的健康状态与预定目标进行比较并做出判断的过程。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802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三、护理程序与相关理论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56760" y="1212840"/>
            <a:ext cx="847404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系统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控制论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6-01-22T06:58:40Z</dcterms:modified>
  <cp:revision>226</cp:revision>
  <dc:subject/>
  <dc:title>内科护理学</dc:title>
</cp:coreProperties>
</file>